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jpeg" ContentType="image/jpeg"/>
  <Override PartName="/ppt/media/image24.png" ContentType="image/png"/>
  <Override PartName="/ppt/media/image11.jpeg" ContentType="image/jpeg"/>
  <Override PartName="/ppt/media/image22.png" ContentType="image/png"/>
  <Override PartName="/ppt/media/image21.png" ContentType="image/png"/>
  <Override PartName="/ppt/media/image27.jpeg" ContentType="image/jpeg"/>
  <Override PartName="/ppt/media/image33.jpeg" ContentType="image/jpeg"/>
  <Override PartName="/ppt/media/image5.jpeg" ContentType="image/jpeg"/>
  <Override PartName="/ppt/media/image26.jpeg" ContentType="image/jpeg"/>
  <Override PartName="/ppt/media/image28.jpeg" ContentType="image/jpeg"/>
  <Override PartName="/ppt/media/image7.jpeg" ContentType="image/jpeg"/>
  <Override PartName="/ppt/media/image6.jpeg" ContentType="image/jpeg"/>
  <Override PartName="/ppt/media/image18.png" ContentType="image/png"/>
  <Override PartName="/ppt/media/image34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9.png" ContentType="image/png"/>
  <Override PartName="/ppt/media/image8.gif" ContentType="image/gif"/>
  <Override PartName="/ppt/media/image2.jpeg" ContentType="image/jpeg"/>
  <Override PartName="/ppt/media/image12.png" ContentType="image/png"/>
  <Override PartName="/ppt/media/image23.jpeg" ContentType="image/jpeg"/>
  <Override PartName="/ppt/media/image10.png" ContentType="image/png"/>
  <Override PartName="/ppt/media/image1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32.jpeg" ContentType="image/jpeg"/>
  <Override PartName="/ppt/media/image17.png" ContentType="image/png"/>
  <Override PartName="/ppt/media/image1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9D13A-75B7-43B5-A565-DB396FBC2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B17B7-91D6-47C6-A073-D6DA85706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ADB48-3248-4AA0-AAEA-A41F403EF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1CCFD-A6D2-4E16-ACDA-D1508FE56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7849C-18DC-4C45-9EED-9D4A4D6BF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DB62A-94BE-43E1-91F3-0AB1DE297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50E68-BE63-4835-A227-E61AD6803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29A2A-C8D9-45D8-A462-98F372D2A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061CA-696A-4823-BCEF-78C4AA2C2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63A8E-7D19-4D15-8FE3-7749C22B9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6ABDA-7568-4260-BB79-F7EB02863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98319-938B-47A2-8F0F-5BF95CD90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FE1CB-DB69-41B3-9A6F-E720D07D4D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3.jpe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image" Target="../media/image29.jpeg"/><Relationship Id="rId7" Type="http://schemas.openxmlformats.org/officeDocument/2006/relationships/image" Target="../media/image30.jpeg"/><Relationship Id="rId8" Type="http://schemas.openxmlformats.org/officeDocument/2006/relationships/image" Target="../media/image31.jpeg"/><Relationship Id="rId9" Type="http://schemas.openxmlformats.org/officeDocument/2006/relationships/image" Target="../media/image32.jpeg"/><Relationship Id="rId10" Type="http://schemas.openxmlformats.org/officeDocument/2006/relationships/image" Target="../media/image33.jpeg"/><Relationship Id="rId11" Type="http://schemas.openxmlformats.org/officeDocument/2006/relationships/image" Target="../media/image34.jpeg"/><Relationship Id="rId1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proshkolu.ru/user/vikafedotova38/file/314849/" TargetMode="External"/><Relationship Id="rId3" Type="http://schemas.openxmlformats.org/officeDocument/2006/relationships/hyperlink" Target="http://www.filipok.ru/show_good.php?idtov=5111" TargetMode="External"/><Relationship Id="rId4" Type="http://schemas.openxmlformats.org/officeDocument/2006/relationships/hyperlink" Target="http://www.filipok.ru/show_good.php?idtov=5111" TargetMode="External"/><Relationship Id="rId5" Type="http://schemas.openxmlformats.org/officeDocument/2006/relationships/hyperlink" Target="http://www.filipok.ru/show_good.php?idtov=5111" TargetMode="External"/><Relationship Id="rId6" Type="http://schemas.openxmlformats.org/officeDocument/2006/relationships/hyperlink" Target="http://www.filipok.ru/show_good.php?idtov=5111" TargetMode="External"/><Relationship Id="rId7" Type="http://schemas.openxmlformats.org/officeDocument/2006/relationships/hyperlink" Target="http://detsad-kitty.ru/index.php?do=search" TargetMode="External"/><Relationship Id="rId8" Type="http://schemas.openxmlformats.org/officeDocument/2006/relationships/hyperlink" Target="http://www.rusedu.ru/detail_7965.html" TargetMode="External"/><Relationship Id="rId9" Type="http://schemas.openxmlformats.org/officeDocument/2006/relationships/hyperlink" Target="http://read.ru/id/419001" TargetMode="External"/><Relationship Id="rId10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jpeg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png"/><Relationship Id="rId3" Type="http://schemas.openxmlformats.org/officeDocument/2006/relationships/image" Target="../media/image8.gif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jpeg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5435640" y="476280"/>
            <a:ext cx="3041640" cy="30970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2843280" y="2924280"/>
            <a:ext cx="3335400" cy="241128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68360" y="5373360"/>
            <a:ext cx="82296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Вежливых слов не одно и не дв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Помни и знай эти чудо-слова!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4"/>
          <a:stretch/>
        </p:blipFill>
        <p:spPr>
          <a:xfrm>
            <a:off x="755640" y="476280"/>
            <a:ext cx="3095640" cy="30654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412920" y="4005360"/>
            <a:ext cx="84088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Comic Sans MS"/>
              </a:rPr>
              <a:t>Вежливые слова  нужно не только зн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Comic Sans MS"/>
              </a:rPr>
              <a:t>но и использовать в своей речи, чтоб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Comic Sans MS"/>
              </a:rPr>
              <a:t>не прослыть невежливым человеком 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Comic Sans MS"/>
              </a:rPr>
              <a:t>и быть понятным своим собеседник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1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4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7" dur="5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ff"/>
                </a:solidFill>
                <a:latin typeface="Comic Sans MS"/>
              </a:rPr>
              <a:t>Работа по учебнику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Прочитайте телефонный разговор героев на стр. 55 учебни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5148360" y="3789360"/>
            <a:ext cx="2735280" cy="2664000"/>
            <a:chOff x="5148360" y="3789360"/>
            <a:chExt cx="2735280" cy="2664000"/>
          </a:xfrm>
        </p:grpSpPr>
        <p:sp>
          <p:nvSpPr>
            <p:cNvPr id="130" name=""/>
            <p:cNvSpPr/>
            <p:nvPr/>
          </p:nvSpPr>
          <p:spPr>
            <a:xfrm>
              <a:off x="5148360" y="3789360"/>
              <a:ext cx="2735280" cy="26640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cc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1" name="" descr=""/>
            <p:cNvPicPr/>
            <p:nvPr/>
          </p:nvPicPr>
          <p:blipFill>
            <a:blip r:embed="rId2"/>
            <a:stretch/>
          </p:blipFill>
          <p:spPr>
            <a:xfrm>
              <a:off x="5261400" y="4080240"/>
              <a:ext cx="2620800" cy="2032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563400" y="1628640"/>
            <a:ext cx="3000600" cy="3961080"/>
          </a:xfrm>
          <a:prstGeom prst="rect">
            <a:avLst/>
          </a:prstGeom>
          <a:ln w="38160">
            <a:solidFill>
              <a:srgbClr val="006600"/>
            </a:solidFill>
            <a:miter/>
          </a:ln>
        </p:spPr>
      </p:pic>
      <p:sp>
        <p:nvSpPr>
          <p:cNvPr id="133" name=""/>
          <p:cNvSpPr/>
          <p:nvPr/>
        </p:nvSpPr>
        <p:spPr>
          <a:xfrm>
            <a:off x="447840" y="335772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0800" y="1628640"/>
            <a:ext cx="5011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Получился ли разгово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вежливым и понятны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4868640"/>
            <a:ext cx="8229600" cy="18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Comic Sans MS"/>
              </a:rPr>
              <a:t>Какие правила нужно соблюдать при разговоре по телефону, чтобы он получился вежливы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1332000" y="765000"/>
            <a:ext cx="6451560" cy="3834000"/>
          </a:xfrm>
          <a:prstGeom prst="rect">
            <a:avLst/>
          </a:prstGeom>
          <a:ln w="38160">
            <a:solidFill>
              <a:srgbClr val="5f5f5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0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3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ff"/>
                </a:solidFill>
                <a:latin typeface="Comic Sans MS"/>
              </a:rPr>
              <a:t>Помни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914280" y="1450800"/>
            <a:ext cx="497844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85000" indent="-5850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Разговаривать по телефону нужно </a:t>
            </a: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вежливым тон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Использовать </a:t>
            </a: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слова приветствия, благо-дарности, извинения, проща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4.  </a:t>
            </a: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Не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следует говорить </a:t>
            </a: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слишком дол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428760" y="1341360"/>
            <a:ext cx="3581280" cy="460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0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ff"/>
                </a:solidFill>
                <a:latin typeface="Comic Sans MS"/>
              </a:rPr>
              <a:t>Работа в парах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74760" y="494136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Comic Sans MS"/>
              </a:rPr>
              <a:t>Придумайте и разыграйте телефонный разговор, который был бы вежливым и понятны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2195640" y="1844640"/>
            <a:ext cx="4608360" cy="2825640"/>
          </a:xfrm>
          <a:prstGeom prst="rect">
            <a:avLst/>
          </a:prstGeom>
          <a:ln w="0">
            <a:noFill/>
          </a:ln>
        </p:spPr>
      </p:pic>
      <p:grpSp>
        <p:nvGrpSpPr>
          <p:cNvPr id="144" name=""/>
          <p:cNvGrpSpPr/>
          <p:nvPr/>
        </p:nvGrpSpPr>
        <p:grpSpPr>
          <a:xfrm>
            <a:off x="628920" y="1413000"/>
            <a:ext cx="5370120" cy="4571640"/>
            <a:chOff x="628920" y="1413000"/>
            <a:chExt cx="5370120" cy="4571640"/>
          </a:xfrm>
        </p:grpSpPr>
        <p:sp>
          <p:nvSpPr>
            <p:cNvPr id="145" name=""/>
            <p:cNvSpPr/>
            <p:nvPr/>
          </p:nvSpPr>
          <p:spPr>
            <a:xfrm>
              <a:off x="684360" y="1413000"/>
              <a:ext cx="2016000" cy="520560"/>
            </a:xfrm>
            <a:prstGeom prst="rect">
              <a:avLst/>
            </a:prstGeom>
            <a:solidFill>
              <a:srgbClr val="ff9fff"/>
            </a:solidFill>
            <a:ln w="38160">
              <a:solidFill>
                <a:srgbClr val="cc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1. «Алло»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05600" y="2276640"/>
              <a:ext cx="2916360" cy="520560"/>
            </a:xfrm>
            <a:prstGeom prst="rect">
              <a:avLst/>
            </a:prstGeom>
            <a:solidFill>
              <a:srgbClr val="00ff00"/>
            </a:solidFill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2. Приветствие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28920" y="3213000"/>
              <a:ext cx="5370120" cy="94716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3. Объяснение цели звонка –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    </a:t>
              </a: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собственно разговор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7640" y="4581360"/>
              <a:ext cx="3271320" cy="520560"/>
            </a:xfrm>
            <a:prstGeom prst="rect">
              <a:avLst/>
            </a:prstGeom>
            <a:solidFill>
              <a:srgbClr val="33ccff"/>
            </a:solidFill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4. Благодарность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55640" y="5464080"/>
              <a:ext cx="2532240" cy="520560"/>
            </a:xfrm>
            <a:prstGeom prst="rect">
              <a:avLst/>
            </a:prstGeom>
            <a:solidFill>
              <a:srgbClr val="ff9966"/>
            </a:solidFill>
            <a:ln w="3816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5. Прощание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6804000" y="404640"/>
            <a:ext cx="1878120" cy="183708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4"/>
          <a:stretch/>
        </p:blipFill>
        <p:spPr>
          <a:xfrm>
            <a:off x="6156360" y="3860640"/>
            <a:ext cx="234612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0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ff"/>
                </a:solidFill>
                <a:latin typeface="Comic Sans MS"/>
              </a:rPr>
              <a:t>Работа по учебнику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140000" y="1600200"/>
            <a:ext cx="4546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Прочитаем вслух текст «Странный папа» на стр. 56 учебни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Как вы объясните «странное» поведение пап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611280" y="1700280"/>
            <a:ext cx="2836800" cy="3744720"/>
          </a:xfrm>
          <a:prstGeom prst="rect">
            <a:avLst/>
          </a:prstGeom>
          <a:ln w="38160">
            <a:solidFill>
              <a:srgbClr val="5f5f5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ff"/>
                </a:solidFill>
                <a:latin typeface="Comic Sans MS"/>
              </a:rPr>
              <a:t>Что такое </a:t>
            </a:r>
            <a:r>
              <a:rPr b="0" lang="en-US" sz="4000" spc="-1" strike="noStrike" u="sng">
                <a:solidFill>
                  <a:srgbClr val="ff0000"/>
                </a:solidFill>
                <a:uFillTx/>
                <a:latin typeface="Comic Sans MS"/>
              </a:rPr>
              <a:t>культура поведения</a:t>
            </a: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5340240"/>
            <a:ext cx="8229600" cy="11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Культура поведения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это вежливые поступ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1692360" y="1484280"/>
            <a:ext cx="5638680" cy="3691080"/>
          </a:xfrm>
          <a:prstGeom prst="rect">
            <a:avLst/>
          </a:prstGeom>
          <a:ln w="38160">
            <a:solidFill>
              <a:srgbClr val="5f5f5f"/>
            </a:solidFill>
            <a:miter/>
          </a:ln>
        </p:spPr>
      </p:pic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2700360" y="333360"/>
            <a:ext cx="3443400" cy="96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0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6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3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ff"/>
                </a:solidFill>
                <a:latin typeface="Comic Sans MS"/>
              </a:rPr>
              <a:t>Кто поступает правильно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395280" y="1197000"/>
            <a:ext cx="8151840" cy="5214960"/>
            <a:chOff x="395280" y="1197000"/>
            <a:chExt cx="8151840" cy="5214960"/>
          </a:xfrm>
        </p:grpSpPr>
        <p:pic>
          <p:nvPicPr>
            <p:cNvPr id="161" name="" descr=""/>
            <p:cNvPicPr/>
            <p:nvPr/>
          </p:nvPicPr>
          <p:blipFill>
            <a:blip r:embed="rId2"/>
            <a:stretch/>
          </p:blipFill>
          <p:spPr>
            <a:xfrm>
              <a:off x="395280" y="1197000"/>
              <a:ext cx="4465800" cy="3079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" name="" descr=""/>
            <p:cNvPicPr/>
            <p:nvPr/>
          </p:nvPicPr>
          <p:blipFill>
            <a:blip r:embed="rId3"/>
            <a:stretch/>
          </p:blipFill>
          <p:spPr>
            <a:xfrm>
              <a:off x="4067280" y="3284640"/>
              <a:ext cx="4479840" cy="3127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3" name=""/>
          <p:cNvGrpSpPr/>
          <p:nvPr/>
        </p:nvGrpSpPr>
        <p:grpSpPr>
          <a:xfrm>
            <a:off x="395280" y="1197000"/>
            <a:ext cx="8136000" cy="5213160"/>
            <a:chOff x="395280" y="1197000"/>
            <a:chExt cx="8136000" cy="5213160"/>
          </a:xfrm>
        </p:grpSpPr>
        <p:pic>
          <p:nvPicPr>
            <p:cNvPr id="164" name="" descr=""/>
            <p:cNvPicPr/>
            <p:nvPr/>
          </p:nvPicPr>
          <p:blipFill>
            <a:blip r:embed="rId4"/>
            <a:stretch/>
          </p:blipFill>
          <p:spPr>
            <a:xfrm>
              <a:off x="395280" y="1197000"/>
              <a:ext cx="4464000" cy="307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" name="" descr=""/>
            <p:cNvPicPr/>
            <p:nvPr/>
          </p:nvPicPr>
          <p:blipFill>
            <a:blip r:embed="rId5"/>
            <a:stretch/>
          </p:blipFill>
          <p:spPr>
            <a:xfrm>
              <a:off x="4067280" y="3357720"/>
              <a:ext cx="4464000" cy="3052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6" name=""/>
          <p:cNvGrpSpPr/>
          <p:nvPr/>
        </p:nvGrpSpPr>
        <p:grpSpPr>
          <a:xfrm>
            <a:off x="395280" y="1197000"/>
            <a:ext cx="8137440" cy="5216400"/>
            <a:chOff x="395280" y="1197000"/>
            <a:chExt cx="8137440" cy="5216400"/>
          </a:xfrm>
        </p:grpSpPr>
        <p:pic>
          <p:nvPicPr>
            <p:cNvPr id="167" name="" descr=""/>
            <p:cNvPicPr/>
            <p:nvPr/>
          </p:nvPicPr>
          <p:blipFill>
            <a:blip r:embed="rId6"/>
            <a:stretch/>
          </p:blipFill>
          <p:spPr>
            <a:xfrm>
              <a:off x="395280" y="1197000"/>
              <a:ext cx="4464000" cy="303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8" name="" descr=""/>
            <p:cNvPicPr/>
            <p:nvPr/>
          </p:nvPicPr>
          <p:blipFill>
            <a:blip r:embed="rId7"/>
            <a:stretch/>
          </p:blipFill>
          <p:spPr>
            <a:xfrm>
              <a:off x="4067280" y="3357720"/>
              <a:ext cx="4465440" cy="3055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9" name=""/>
          <p:cNvGrpSpPr/>
          <p:nvPr/>
        </p:nvGrpSpPr>
        <p:grpSpPr>
          <a:xfrm>
            <a:off x="395280" y="1197000"/>
            <a:ext cx="8183520" cy="5327280"/>
            <a:chOff x="395280" y="1197000"/>
            <a:chExt cx="8183520" cy="5327280"/>
          </a:xfrm>
        </p:grpSpPr>
        <p:pic>
          <p:nvPicPr>
            <p:cNvPr id="170" name="" descr=""/>
            <p:cNvPicPr/>
            <p:nvPr/>
          </p:nvPicPr>
          <p:blipFill>
            <a:blip r:embed="rId8"/>
            <a:stretch/>
          </p:blipFill>
          <p:spPr>
            <a:xfrm>
              <a:off x="395280" y="1197000"/>
              <a:ext cx="4486320" cy="309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1" name="" descr=""/>
            <p:cNvPicPr/>
            <p:nvPr/>
          </p:nvPicPr>
          <p:blipFill>
            <a:blip r:embed="rId9"/>
            <a:stretch/>
          </p:blipFill>
          <p:spPr>
            <a:xfrm>
              <a:off x="4067280" y="3427200"/>
              <a:ext cx="4511520" cy="3097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2" name=""/>
          <p:cNvGrpSpPr/>
          <p:nvPr/>
        </p:nvGrpSpPr>
        <p:grpSpPr>
          <a:xfrm>
            <a:off x="324000" y="1251000"/>
            <a:ext cx="8272440" cy="5273280"/>
            <a:chOff x="324000" y="1251000"/>
            <a:chExt cx="8272440" cy="5273280"/>
          </a:xfrm>
        </p:grpSpPr>
        <p:pic>
          <p:nvPicPr>
            <p:cNvPr id="173" name="" descr=""/>
            <p:cNvPicPr/>
            <p:nvPr/>
          </p:nvPicPr>
          <p:blipFill>
            <a:blip r:embed="rId10"/>
            <a:stretch/>
          </p:blipFill>
          <p:spPr>
            <a:xfrm>
              <a:off x="4140360" y="3483000"/>
              <a:ext cx="4456080" cy="3041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4" name="" descr=""/>
            <p:cNvPicPr/>
            <p:nvPr/>
          </p:nvPicPr>
          <p:blipFill>
            <a:blip r:embed="rId11"/>
            <a:stretch/>
          </p:blipFill>
          <p:spPr>
            <a:xfrm>
              <a:off x="324000" y="1251000"/>
              <a:ext cx="4522680" cy="31334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0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0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14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30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ff"/>
                </a:solidFill>
                <a:latin typeface="Comic Sans MS"/>
              </a:rPr>
              <a:t>Источник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proshkolu.ru/user/vikafedotova38/file/314849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://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www.filipok.ru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/show_good.php?idtov=5111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http://detsad-kitty.ru/index.php?do=sear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http://www.rusedu.ru/detail_7965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http://read.ru/id/4190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http://wap.mobilmusic.ru/fileanim.html?id=665236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http://www.proshkolu.ru/user/Walentina111/file/660612/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www.petrovka.ua/product.php?code=7326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www.torroid.ru/?function=search&amp;search=heavy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school18.ivedu.ru/news/index.php?page_view=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www.goodclipart.ru/index.php?clipart_id=6504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Monotype Corsiva"/>
              </a:rPr>
              <a:t>Панова Оксана Владимиров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Monotype Corsiva"/>
              </a:rPr>
              <a:t>учитель начальных классов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Monotype Corsiva"/>
              </a:rPr>
              <a:t>МАОУ «Гимназия №4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Monotype Corsiva"/>
              </a:rPr>
              <a:t>г. Великого Новгоро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ff"/>
                </a:solidFill>
                <a:latin typeface="Arial"/>
              </a:rPr>
              <a:t>Персональный сайт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ff"/>
                </a:solidFill>
                <a:latin typeface="Arial"/>
              </a:rPr>
              <a:t>http://www.panowa-ox.narod.ru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Презентация опубликована на сайте - viki.rdf.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556000" y="1198440"/>
            <a:ext cx="4054320" cy="41752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ff"/>
                </a:solidFill>
                <a:latin typeface="Comic Sans MS"/>
              </a:rPr>
              <a:t>Волшебные слов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5444640"/>
            <a:ext cx="8229600" cy="14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Comic Sans MS"/>
              </a:rPr>
              <a:t>Как ты думаешь, какие слова называют волшебными? Почем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302040" y="993240"/>
            <a:ext cx="8549640" cy="4391280"/>
            <a:chOff x="302040" y="993240"/>
            <a:chExt cx="8549640" cy="4391280"/>
          </a:xfrm>
        </p:grpSpPr>
        <p:grpSp>
          <p:nvGrpSpPr>
            <p:cNvPr id="47" name=""/>
            <p:cNvGrpSpPr/>
            <p:nvPr/>
          </p:nvGrpSpPr>
          <p:grpSpPr>
            <a:xfrm>
              <a:off x="568800" y="1197000"/>
              <a:ext cx="1732320" cy="1136520"/>
              <a:chOff x="568800" y="1197000"/>
              <a:chExt cx="1732320" cy="1136520"/>
            </a:xfrm>
          </p:grpSpPr>
          <p:sp>
            <p:nvSpPr>
              <p:cNvPr id="48" name=""/>
              <p:cNvSpPr/>
              <p:nvPr/>
            </p:nvSpPr>
            <p:spPr>
              <a:xfrm rot="20461200">
                <a:off x="608400" y="1558080"/>
                <a:ext cx="1652760" cy="520560"/>
              </a:xfrm>
              <a:prstGeom prst="rect">
                <a:avLst/>
              </a:prstGeom>
              <a:solidFill>
                <a:srgbClr val="ffff00"/>
              </a:solidFill>
              <a:ln w="38160">
                <a:solidFill>
                  <a:srgbClr val="ff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Comic Sans MS"/>
                  </a:rPr>
                  <a:t>Спасибо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1188720" y="1268280"/>
                <a:ext cx="576000" cy="144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flipH="1">
                <a:off x="972360" y="1197000"/>
                <a:ext cx="215640" cy="503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115640" y="1197000"/>
                <a:ext cx="144000" cy="14436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684360" y="2492280"/>
              <a:ext cx="1871640" cy="1469160"/>
              <a:chOff x="684360" y="2492280"/>
              <a:chExt cx="1871640" cy="1469160"/>
            </a:xfrm>
          </p:grpSpPr>
          <p:sp>
            <p:nvSpPr>
              <p:cNvPr id="53" name=""/>
              <p:cNvSpPr/>
              <p:nvPr/>
            </p:nvSpPr>
            <p:spPr>
              <a:xfrm>
                <a:off x="684360" y="3014280"/>
                <a:ext cx="1871640" cy="947160"/>
              </a:xfrm>
              <a:prstGeom prst="rect">
                <a:avLst/>
              </a:prstGeom>
              <a:solidFill>
                <a:srgbClr val="ff99ff"/>
              </a:solidFill>
              <a:ln w="38160">
                <a:solidFill>
                  <a:srgbClr val="cc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Comic Sans MS"/>
                  </a:rPr>
                  <a:t>Извините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1474920" y="2492280"/>
                <a:ext cx="144360" cy="14436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548000" y="2563560"/>
                <a:ext cx="503280" cy="43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1116000" y="2563560"/>
                <a:ext cx="432000" cy="433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" name=""/>
            <p:cNvGrpSpPr/>
            <p:nvPr/>
          </p:nvGrpSpPr>
          <p:grpSpPr>
            <a:xfrm>
              <a:off x="6457680" y="993240"/>
              <a:ext cx="2327760" cy="1430280"/>
              <a:chOff x="6457680" y="993240"/>
              <a:chExt cx="2327760" cy="1430280"/>
            </a:xfrm>
          </p:grpSpPr>
          <p:sp>
            <p:nvSpPr>
              <p:cNvPr id="58" name=""/>
              <p:cNvSpPr/>
              <p:nvPr/>
            </p:nvSpPr>
            <p:spPr>
              <a:xfrm rot="1044000">
                <a:off x="6483240" y="1574280"/>
                <a:ext cx="2276280" cy="520560"/>
              </a:xfrm>
              <a:prstGeom prst="rect">
                <a:avLst/>
              </a:prstGeom>
              <a:solidFill>
                <a:srgbClr val="00ff00"/>
              </a:solidFill>
              <a:ln w="3816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Comic Sans MS"/>
                  </a:rPr>
                  <a:t>Пожалуйста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98800">
                <a:off x="7802280" y="999000"/>
                <a:ext cx="144360" cy="14436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7874280" y="1070640"/>
                <a:ext cx="231480" cy="669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flipH="1">
                <a:off x="7191000" y="1070640"/>
                <a:ext cx="682920" cy="3733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" name=""/>
            <p:cNvGrpSpPr/>
            <p:nvPr/>
          </p:nvGrpSpPr>
          <p:grpSpPr>
            <a:xfrm>
              <a:off x="6659640" y="2565360"/>
              <a:ext cx="2016000" cy="1115640"/>
              <a:chOff x="6659640" y="2565360"/>
              <a:chExt cx="2016000" cy="1115640"/>
            </a:xfrm>
          </p:grpSpPr>
          <p:sp>
            <p:nvSpPr>
              <p:cNvPr id="63" name=""/>
              <p:cNvSpPr/>
              <p:nvPr/>
            </p:nvSpPr>
            <p:spPr>
              <a:xfrm>
                <a:off x="6659640" y="3160440"/>
                <a:ext cx="2016000" cy="520560"/>
              </a:xfrm>
              <a:prstGeom prst="rect">
                <a:avLst/>
              </a:prstGeom>
              <a:solidFill>
                <a:srgbClr val="00ffff"/>
              </a:solidFill>
              <a:ln w="3816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Comic Sans MS"/>
                  </a:rPr>
                  <a:t>Простите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523280" y="2565360"/>
                <a:ext cx="144360" cy="14436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7594560" y="2638080"/>
                <a:ext cx="433440" cy="503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flipH="1">
                <a:off x="7162560" y="2638080"/>
                <a:ext cx="431640" cy="503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" name=""/>
            <p:cNvGrpSpPr/>
            <p:nvPr/>
          </p:nvGrpSpPr>
          <p:grpSpPr>
            <a:xfrm>
              <a:off x="6633000" y="4005360"/>
              <a:ext cx="2218680" cy="1379160"/>
              <a:chOff x="6633000" y="4005360"/>
              <a:chExt cx="2218680" cy="1379160"/>
            </a:xfrm>
          </p:grpSpPr>
          <p:sp>
            <p:nvSpPr>
              <p:cNvPr id="68" name=""/>
              <p:cNvSpPr/>
              <p:nvPr/>
            </p:nvSpPr>
            <p:spPr>
              <a:xfrm rot="20405400">
                <a:off x="6656400" y="4509360"/>
                <a:ext cx="2171160" cy="520560"/>
              </a:xfrm>
              <a:prstGeom prst="rect">
                <a:avLst/>
              </a:prstGeom>
              <a:solidFill>
                <a:srgbClr val="ffcc99"/>
              </a:solidFill>
              <a:ln w="3816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Comic Sans MS"/>
                  </a:rPr>
                  <a:t>Здравствуй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7307280" y="4005360"/>
                <a:ext cx="144360" cy="14436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7381800" y="4075200"/>
                <a:ext cx="719280" cy="290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>
                <a:off x="7164360" y="4076640"/>
                <a:ext cx="216000" cy="647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2" name=""/>
            <p:cNvGrpSpPr/>
            <p:nvPr/>
          </p:nvGrpSpPr>
          <p:grpSpPr>
            <a:xfrm>
              <a:off x="302040" y="3860640"/>
              <a:ext cx="2278800" cy="1426320"/>
              <a:chOff x="302040" y="3860640"/>
              <a:chExt cx="2278800" cy="1426320"/>
            </a:xfrm>
          </p:grpSpPr>
          <p:sp>
            <p:nvSpPr>
              <p:cNvPr id="73" name=""/>
              <p:cNvSpPr/>
              <p:nvPr/>
            </p:nvSpPr>
            <p:spPr>
              <a:xfrm rot="1027800">
                <a:off x="329400" y="4449960"/>
                <a:ext cx="2224080" cy="520560"/>
              </a:xfrm>
              <a:prstGeom prst="rect">
                <a:avLst/>
              </a:prstGeom>
              <a:solidFill>
                <a:srgbClr val="93bfff"/>
              </a:solidFill>
              <a:ln w="381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Comic Sans MS"/>
                  </a:rPr>
                  <a:t>Благодарю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1625400" y="3860640"/>
                <a:ext cx="144720" cy="14436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1697040" y="3933720"/>
                <a:ext cx="216000" cy="64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>
                <a:off x="1193760" y="3933720"/>
                <a:ext cx="503280" cy="431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" name=""/>
          <p:cNvSpPr/>
          <p:nvPr/>
        </p:nvSpPr>
        <p:spPr>
          <a:xfrm>
            <a:off x="367920" y="5445000"/>
            <a:ext cx="8071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Эти слова делают нашу речь приятне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более тёплой, доброжелательн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9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34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ff"/>
                </a:solidFill>
                <a:latin typeface="Comic Sans MS"/>
              </a:rPr>
              <a:t>В каких случаях </a:t>
            </a:r>
            <a:br>
              <a:rPr sz="4000"/>
            </a:br>
            <a:r>
              <a:rPr b="0" lang="en-US" sz="4000" spc="-1" strike="noStrike">
                <a:solidFill>
                  <a:srgbClr val="6600ff"/>
                </a:solidFill>
                <a:latin typeface="Comic Sans MS"/>
              </a:rPr>
              <a:t>мы используем эти слова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916360" y="5734080"/>
            <a:ext cx="3168360" cy="576360"/>
          </a:xfrm>
          <a:prstGeom prst="flowChartAlternateProcess">
            <a:avLst/>
          </a:prstGeom>
          <a:solidFill>
            <a:srgbClr val="00ffff"/>
          </a:solidFill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Благодар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618920" y="1628640"/>
            <a:ext cx="5761440" cy="4105440"/>
            <a:chOff x="1618920" y="1628640"/>
            <a:chExt cx="5761440" cy="4105440"/>
          </a:xfrm>
        </p:grpSpPr>
        <p:pic>
          <p:nvPicPr>
            <p:cNvPr id="81" name="" descr=""/>
            <p:cNvPicPr/>
            <p:nvPr/>
          </p:nvPicPr>
          <p:blipFill>
            <a:blip r:embed="rId2"/>
            <a:stretch/>
          </p:blipFill>
          <p:spPr>
            <a:xfrm>
              <a:off x="2843280" y="1628640"/>
              <a:ext cx="3313080" cy="327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"/>
            <p:cNvSpPr/>
            <p:nvPr/>
          </p:nvSpPr>
          <p:spPr>
            <a:xfrm flipV="1">
              <a:off x="6156360" y="2276640"/>
              <a:ext cx="1152360" cy="7920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flipH="1" flipV="1">
              <a:off x="1618920" y="2276640"/>
              <a:ext cx="1297080" cy="7207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084720" y="3789360"/>
              <a:ext cx="1295640" cy="5763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1692360" y="3789360"/>
              <a:ext cx="1295280" cy="5763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500720" y="4508640"/>
              <a:ext cx="0" cy="12254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" name=""/>
          <p:cNvSpPr/>
          <p:nvPr/>
        </p:nvSpPr>
        <p:spPr>
          <a:xfrm>
            <a:off x="6012000" y="1700280"/>
            <a:ext cx="2736720" cy="576360"/>
          </a:xfrm>
          <a:prstGeom prst="flowChartAlternateProcess">
            <a:avLst/>
          </a:prstGeom>
          <a:solidFill>
            <a:srgbClr val="66ccff"/>
          </a:soli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Прощ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012000" y="4365720"/>
            <a:ext cx="2736720" cy="576000"/>
          </a:xfrm>
          <a:prstGeom prst="flowChartAlternateProcess">
            <a:avLst/>
          </a:prstGeom>
          <a:solidFill>
            <a:srgbClr val="ff66ff"/>
          </a:solidFill>
          <a:ln w="381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Просьб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5280" y="4365720"/>
            <a:ext cx="2736720" cy="576000"/>
          </a:xfrm>
          <a:prstGeom prst="flowChartAlternateProcess">
            <a:avLst/>
          </a:prstGeom>
          <a:solidFill>
            <a:srgbClr val="00ff00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Извин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1700280"/>
            <a:ext cx="2736720" cy="57636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Приветств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ff"/>
                </a:solidFill>
                <a:latin typeface="Comic Sans MS"/>
              </a:rPr>
              <a:t>Работа в пар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23640" y="4508280"/>
            <a:ext cx="8569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Comic Sans MS"/>
              </a:rPr>
              <a:t>Рассмотрите рисунки на стр. 54 учебника. Придумайте и разыграйте разговор между героями, используя вежливые сло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2050920" y="1341360"/>
            <a:ext cx="5040360" cy="30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ff"/>
                </a:solidFill>
                <a:latin typeface="Comic Sans MS"/>
              </a:rPr>
              <a:t>Проверк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4941720"/>
            <a:ext cx="8229600" cy="11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971640" y="1125360"/>
            <a:ext cx="7056360" cy="5284800"/>
          </a:xfrm>
          <a:prstGeom prst="rect">
            <a:avLst/>
          </a:prstGeom>
          <a:ln w="38160">
            <a:solidFill>
              <a:srgbClr val="5f5f5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324000" y="1557360"/>
            <a:ext cx="4537080" cy="415620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ff"/>
                </a:solidFill>
                <a:latin typeface="Comic Sans MS"/>
              </a:rPr>
              <a:t>Здравствуйт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427280" y="1412640"/>
            <a:ext cx="47163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333333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Comic Sans MS"/>
              </a:rPr>
              <a:t>Что обозначает эт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Comic Sans MS"/>
              </a:rPr>
              <a:t>слово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333333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Comic Sans MS"/>
              </a:rPr>
              <a:t>Кого можно им приветствова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333333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Comic Sans MS"/>
              </a:rPr>
              <a:t>Какими словами можно заменить это слов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84600" y="5734080"/>
            <a:ext cx="746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Мы желаем вам здоровья (здравия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 flipH="1">
            <a:off x="4932360" y="1268280"/>
            <a:ext cx="3240000" cy="265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417920" y="1452600"/>
            <a:ext cx="440208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Comic Sans MS"/>
              </a:rPr>
              <a:t>Я другу говорю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«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Привет!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Comic Sans MS"/>
              </a:rPr>
              <a:t>А он в отве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«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Здорово!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Comic Sans MS"/>
              </a:rPr>
              <a:t>Тут ниче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Comic Sans MS"/>
              </a:rPr>
              <a:t>Плохого нет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Comic Sans MS"/>
              </a:rPr>
              <a:t>Подходят оба слова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468360" y="1628640"/>
            <a:ext cx="3960720" cy="3621240"/>
          </a:xfrm>
          <a:prstGeom prst="rect">
            <a:avLst/>
          </a:prstGeom>
          <a:ln w="38160">
            <a:solidFill>
              <a:srgbClr val="5f5f5f"/>
            </a:solidFill>
            <a:miter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 flipH="1">
            <a:off x="6948000" y="0"/>
            <a:ext cx="1871640" cy="15303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4"/>
          <a:stretch/>
        </p:blipFill>
        <p:spPr>
          <a:xfrm>
            <a:off x="2340000" y="404640"/>
            <a:ext cx="4392720" cy="4133880"/>
          </a:xfrm>
          <a:prstGeom prst="rect">
            <a:avLst/>
          </a:prstGeom>
          <a:ln w="38160">
            <a:solidFill>
              <a:srgbClr val="5f5f5f"/>
            </a:solidFill>
            <a:miter/>
          </a:ln>
        </p:spPr>
      </p:pic>
      <p:sp>
        <p:nvSpPr>
          <p:cNvPr id="107" name=""/>
          <p:cNvSpPr/>
          <p:nvPr/>
        </p:nvSpPr>
        <p:spPr>
          <a:xfrm>
            <a:off x="1770480" y="4508640"/>
            <a:ext cx="56840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Comic Sans MS"/>
              </a:rPr>
              <a:t>Старшем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Comic Sans MS"/>
              </a:rPr>
              <a:t>если встречаемся с ни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Comic Sans MS"/>
              </a:rPr>
              <a:t>Первыми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«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Здравствуйте!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Comic Sans MS"/>
              </a:rPr>
              <a:t>мы говор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ff"/>
                </a:solidFill>
                <a:latin typeface="Comic Sans MS"/>
              </a:rPr>
              <a:t>До свидания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-73440" y="4940280"/>
            <a:ext cx="932508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Comic Sans MS"/>
              </a:rPr>
              <a:t>Когда и кому говорят эти слова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Comic Sans MS"/>
              </a:rPr>
              <a:t>Какими словами можно их замени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Comic Sans MS"/>
              </a:rPr>
              <a:t>Что обозначает это выражени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539640" y="1316160"/>
            <a:ext cx="8064720" cy="3481200"/>
            <a:chOff x="539640" y="1316160"/>
            <a:chExt cx="8064720" cy="3481200"/>
          </a:xfrm>
        </p:grpSpPr>
        <p:pic>
          <p:nvPicPr>
            <p:cNvPr id="111" name="" descr=""/>
            <p:cNvPicPr/>
            <p:nvPr/>
          </p:nvPicPr>
          <p:blipFill>
            <a:blip r:embed="rId2"/>
            <a:stretch/>
          </p:blipFill>
          <p:spPr>
            <a:xfrm>
              <a:off x="4788000" y="1316160"/>
              <a:ext cx="3816360" cy="3481200"/>
            </a:xfrm>
            <a:prstGeom prst="rect">
              <a:avLst/>
            </a:prstGeom>
            <a:ln w="38160">
              <a:solidFill>
                <a:srgbClr val="5f5f5f"/>
              </a:solidFill>
              <a:miter/>
            </a:ln>
          </p:spPr>
        </p:pic>
        <p:pic>
          <p:nvPicPr>
            <p:cNvPr id="112" name="" descr=""/>
            <p:cNvPicPr/>
            <p:nvPr/>
          </p:nvPicPr>
          <p:blipFill>
            <a:blip r:embed="rId3"/>
            <a:stretch/>
          </p:blipFill>
          <p:spPr>
            <a:xfrm>
              <a:off x="539640" y="1341360"/>
              <a:ext cx="3930840" cy="3441600"/>
            </a:xfrm>
            <a:prstGeom prst="rect">
              <a:avLst/>
            </a:prstGeom>
            <a:ln w="38160">
              <a:solidFill>
                <a:srgbClr val="5f5f5f"/>
              </a:solidFill>
              <a:miter/>
            </a:ln>
          </p:spPr>
        </p:pic>
      </p:grpSp>
      <p:sp>
        <p:nvSpPr>
          <p:cNvPr id="113" name=""/>
          <p:cNvSpPr/>
          <p:nvPr/>
        </p:nvSpPr>
        <p:spPr>
          <a:xfrm>
            <a:off x="1049400" y="5229360"/>
            <a:ext cx="6857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«До свидания» - т.е. мы надеем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увидеть вас ещё раз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1123920" y="260280"/>
            <a:ext cx="7076160" cy="1068840"/>
            <a:chOff x="1123920" y="260280"/>
            <a:chExt cx="7076160" cy="1068840"/>
          </a:xfrm>
        </p:grpSpPr>
        <p:sp>
          <p:nvSpPr>
            <p:cNvPr id="115" name=""/>
            <p:cNvSpPr/>
            <p:nvPr/>
          </p:nvSpPr>
          <p:spPr>
            <a:xfrm>
              <a:off x="1123920" y="476280"/>
              <a:ext cx="2827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6600ff"/>
                  </a:solidFill>
                  <a:latin typeface="Comic Sans MS"/>
                </a:rPr>
                <a:t>До свидания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661720" y="260280"/>
              <a:ext cx="253836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6600ff"/>
                  </a:solidFill>
                  <a:latin typeface="Comic Sans MS"/>
                </a:rPr>
                <a:t>Пока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6600ff"/>
                  </a:solidFill>
                  <a:latin typeface="Comic Sans MS"/>
                </a:rPr>
                <a:t>До встречи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356000" y="980640"/>
            <a:ext cx="4176720" cy="4824360"/>
          </a:xfrm>
          <a:prstGeom prst="rect">
            <a:avLst/>
          </a:prstGeom>
          <a:solidFill>
            <a:srgbClr val="ffff00"/>
          </a:solidFill>
          <a:ln w="57240">
            <a:solidFill>
              <a:srgbClr val="ff66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«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До свиданья!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»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Comic Sans MS"/>
              </a:rPr>
              <a:t>На прощан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Comic Sans MS"/>
              </a:rPr>
              <a:t>Говори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Comic Sans MS"/>
              </a:rPr>
              <a:t>О том и реч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Comic Sans MS"/>
              </a:rPr>
              <a:t>Что ещё на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Comic Sans MS"/>
              </a:rPr>
              <a:t>       </a:t>
            </a:r>
            <a:r>
              <a:rPr b="0" lang="en-US" sz="3200" spc="-1" strike="noStrike">
                <a:solidFill>
                  <a:srgbClr val="333333"/>
                </a:solidFill>
                <a:latin typeface="Comic Sans MS"/>
              </a:rPr>
              <a:t>ждут свидан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Comic Sans MS"/>
              </a:rPr>
              <a:t>Много-мно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Comic Sans MS"/>
              </a:rPr>
              <a:t>       </a:t>
            </a:r>
            <a:r>
              <a:rPr b="0" lang="en-US" sz="3200" spc="-1" strike="noStrike">
                <a:solidFill>
                  <a:srgbClr val="333333"/>
                </a:solidFill>
                <a:latin typeface="Comic Sans MS"/>
              </a:rPr>
              <a:t>новых встреч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324000" y="3105000"/>
            <a:ext cx="3960720" cy="284508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1258920" y="404640"/>
            <a:ext cx="2160720" cy="176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7T14:39:20Z</dcterms:created>
  <dc:creator>мама</dc:creator>
  <dc:description/>
  <dc:language>en-US</dc:language>
  <cp:lastModifiedBy>мама</cp:lastModifiedBy>
  <dcterms:modified xsi:type="dcterms:W3CDTF">2011-01-20T15:48:32Z</dcterms:modified>
  <cp:revision>8</cp:revision>
  <dc:subject/>
  <dc:title>Слайд 1</dc:title>
</cp:coreProperties>
</file>